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ACBA-813D-4A5D-AAA2-1DC87D672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FA68-917F-465A-A686-07ADF06F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7B2F-02CC-48BD-8789-FD0288F54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ED4F-39D0-4AFD-8670-AED83CB03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9645-1C8A-4A84-9B16-2C7CD8601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1AE3-8B73-48A4-AE61-759CA51B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1100-C474-4B27-8BB8-B36EA0BA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EEEA-7AE2-4FCB-B4CB-AF44F564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FF11-58BA-4C97-8A64-C31CF015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0410-DE3C-4A68-B506-37FA1EC4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F7148-C2BE-4B0C-9857-7EE65022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EA81-62A2-4DD1-89C4-6756A6A9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88F0-5622-4AB2-AC08-C87A38C8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2D46-644A-46BE-881D-1334AB21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DA31-398C-4BD3-BA2C-B799635B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4ACF-4DF1-4E01-AFA8-8EE91DCB5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C6FE-0E82-4000-80B6-6961DCF88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4CC3-5562-4E10-86F6-9FDEA51D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0FCF-FEA1-4092-91F0-255DD1AB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7AD5-5733-46CB-97AC-BCD3D878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5276-C465-4C36-B09F-38C9D0D3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8511-845A-4E05-9064-259A5D78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6E42-203E-45F6-86F5-94D0A3CB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C12D-5F8E-48FF-AE3E-C9C663AA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E40B-1A0B-4B29-AE67-EAA925E18332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3AB7-2EB7-40F9-BB5F-0325AFFB09DF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iMovie/6-12/Session 3 of 3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shop Titl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Students will share the following aspects of their project: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212164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Lucida Grande"/>
              </a:rPr>
              <a:t>Explain how the choices you have made regarding the video effects and audio have enhanced your movie.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212164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Lucida Grande"/>
              </a:rPr>
              <a:t>Why did you make these particular choices?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057400"/>
            <a:ext cx="9144000" cy="480060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How does this work address the </a:t>
            </a:r>
            <a:br>
              <a:rPr sz="3600"/>
            </a:b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questions that began the session?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e have seen how the choices we make as editors can effect the story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d2204"/>
                </a:solidFill>
                <a:latin typeface="Arial"/>
              </a:rPr>
              <a:t>We have observed how title sequences, video effects, and transitions can add to or subtract from the overall impact of a movie.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we import audio and add audio effects in iMovie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we share our movies with other people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do we add video effects to our movie clips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udio, whether it is from a CD, computer recording, or GarageBand has the ability to enhance dramatic moments in a movie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Once an iMovie is created there are many different methods of distribution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It can be: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60080" indent="-1940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displayed on a websit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60080" indent="-1940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sent via emai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60080" indent="-1940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viewed on a computer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60080" indent="-1940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burned on a DVD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Video effects can be used to alter a clip. Effects can be used to alter the speed of the clip, add special effects to the clip, or turn a clip to black and white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at are possible sources of digital audio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 microphone (built into the computer or external)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Online download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 CD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at are video effects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oday’s skill will focus on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importing audio into iMovie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video effect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aving the movie in a format everyone can view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Lucida Grande"/>
              </a:rPr>
              <a:t>(see the tutorial for specific instructions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etting Started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    </a:t>
            </a: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Take the next 30 minutes to import audio. Add video effects (if necessary) and transitions to your movies. After 30 minutes we will come back together and share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2164"/>
                </a:solidFill>
                <a:latin typeface="Lucida Grande"/>
              </a:rPr>
              <a:t>Participant Activity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12164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Import audio into iMovie and include it in your movie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Add video effects to your movie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599"/>
              </a:spcAft>
              <a:buClr>
                <a:srgbClr val="212164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Save your iMovie project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599"/>
              </a:spcAft>
              <a:buClr>
                <a:srgbClr val="212164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Share (export) your iMovie project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02:24:10Z</dcterms:created>
  <dc:creator>NYCD DOE</dc:creator>
  <dc:description/>
  <dc:language>en-US</dc:language>
  <cp:lastModifiedBy>NYCD DOE</cp:lastModifiedBy>
  <dcterms:modified xsi:type="dcterms:W3CDTF">2007-03-06T15:05:50Z</dcterms:modified>
  <cp:revision>21</cp:revision>
  <dc:subject/>
  <dc:title>Workshop Title</dc:title>
</cp:coreProperties>
</file>